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25EE-37E3-4EA6-A870-9BF608B2E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0A62-4179-4926-ADB4-A7BA969493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3CAF-841A-4A37-9A24-A8B0953415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653-179B-4796-BF71-0D95F387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E97-CECC-4C87-AEBC-14D204FF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72A-9349-4647-A13E-F3327A49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E9A-831A-48B2-951D-474A4DCD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6071-79C6-45B3-9D34-B9FF9C60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5E2F-FAE2-436B-804D-080A8C93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ECF4-9A03-4DAB-99F0-5498B431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9663-3549-464E-A9AD-B292A02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4E08-64EE-4124-B761-0BB91782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AF48-930E-4B04-AD0F-A7E740AF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6DAB-26F3-4F0E-8F92-F1A64235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07E-0F6B-473B-9C8E-F2D16DB6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35B0-06DD-42DB-B7BC-A80D0B6E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6D5D-B80F-42AA-9867-0D8B6EF3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00FC-450A-4795-8088-BE414809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5C43-D6D7-4BAA-A118-44F5BF98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FB1D-FE1E-4D31-BB44-1D138BB7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1CF-BDFC-419D-9D58-DFB0B7D5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6A1-2CC0-46BB-9903-71A6172F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ED4-AAC7-4C5D-9B9F-043F1DF2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CD7-FBA3-4904-BD29-7F64AF8E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5CD-62C6-4689-9D2B-12EFD83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647-182A-44A3-9189-82742D3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2F0-A615-4C2A-A37D-E47615B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AFCC-11D9-4DBA-A5F6-99BDA27348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A9A0-4517-4D45-B71F-A63AB20BC95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езентация к урок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П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верхность тела человека и его теплообмен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разрабо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шенковой  Валентиной Павловной, преподавателем физ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йбуровой  Галиной Николаевной – преподавателем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Министерство образования  Республики Коми </a:t>
            </a:r>
            <a:br>
              <a:rPr sz="1800"/>
            </a:b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Государственное автономное  учреждение среднего </a:t>
            </a:r>
            <a:br>
              <a:rPr sz="1800"/>
            </a:b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рофессионального образования Республики  Коми</a:t>
            </a:r>
            <a:br>
              <a:rPr sz="1800"/>
            </a:b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Сыктывкарский  политехнический техникум»</a:t>
            </a:r>
            <a:br>
              <a:rPr sz="1800"/>
            </a:b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395280" y="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плообмен тела человека с окружающей сре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68360" y="1268280"/>
            <a:ext cx="8280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диация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передача тепла в форме лучистой энергии с поверхности тела человека на окружающие поверхности. Процесс теплоотдачи  составляет 43-50%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векци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это передача тепла с поверхности тела или одежды человека движущемуся около него воздуху. Процесс теплоотдачи  составляет 25-3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арен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это выделение пота из организма тела человека Процесс теплоотдачи  составляет 23-29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я знания, полученные на уроке, вычислите площадь собственного тела и сделайте выводы о теплобалан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ма занятия: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оверхность тела человека и его теплообмен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071800" y="2571840"/>
            <a:ext cx="5256000" cy="419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447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Е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площади поверхности тела человека и проверка его теплового балан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5580000" y="2060640"/>
            <a:ext cx="3122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4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анализировать информационные источники по проблеме определения площади поверхности тела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ть практические умения проведения измерений площади поверх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плового баланса на основе использования современных аппаратных сред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лександр Вербин\Desktop\Площадь человека\28765.jpg"/>
          <p:cNvPicPr/>
          <p:nvPr/>
        </p:nvPicPr>
        <p:blipFill>
          <a:blip r:embed="rId1"/>
          <a:stretch/>
        </p:blipFill>
        <p:spPr>
          <a:xfrm>
            <a:off x="1000080" y="-14400"/>
            <a:ext cx="7215120" cy="687240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4"/>
          <p:cNvSpPr/>
          <p:nvPr/>
        </p:nvSpPr>
        <p:spPr>
          <a:xfrm>
            <a:off x="2643120" y="3143160"/>
            <a:ext cx="571680" cy="571680"/>
          </a:xfrm>
          <a:prstGeom prst="ellipse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Овал 5"/>
          <p:cNvSpPr/>
          <p:nvPr/>
        </p:nvSpPr>
        <p:spPr>
          <a:xfrm>
            <a:off x="5867280" y="3141720"/>
            <a:ext cx="571680" cy="571320"/>
          </a:xfrm>
          <a:prstGeom prst="ellipse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3000240" y="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cc"/>
                </a:solidFill>
                <a:latin typeface="Calibri"/>
              </a:rPr>
              <a:t>«Правило девят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3429000" y="5072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572000" y="6396120"/>
            <a:ext cx="3000240" cy="459720"/>
          </a:xfrm>
          <a:prstGeom prst="rect">
            <a:avLst/>
          </a:prstGeom>
          <a:solidFill>
            <a:srgbClr val="c2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cc"/>
                </a:solidFill>
                <a:latin typeface="Calibri"/>
              </a:rPr>
              <a:t>«Правил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99cc"/>
                </a:solidFill>
                <a:latin typeface="Calibri"/>
              </a:rPr>
              <a:t>ладон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Стрелка вправо 13"/>
          <p:cNvSpPr/>
          <p:nvPr/>
        </p:nvSpPr>
        <p:spPr>
          <a:xfrm rot="18610800">
            <a:off x="3940200" y="5889240"/>
            <a:ext cx="811440" cy="35712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rcRect l="0" t="0" r="0" b="5496"/>
          <a:stretch/>
        </p:blipFill>
        <p:spPr>
          <a:xfrm>
            <a:off x="395280" y="333360"/>
            <a:ext cx="4546440" cy="6191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292720" y="476280"/>
            <a:ext cx="33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мограмма для определения площади тела у детей (а) и у взрослых (б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1"/>
          <p:cNvSpPr/>
          <p:nvPr/>
        </p:nvSpPr>
        <p:spPr>
          <a:xfrm>
            <a:off x="214200" y="785880"/>
            <a:ext cx="8715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1. Расчет поверхности тела человека по формуле Дюбой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где </a:t>
            </a:r>
            <a:r>
              <a:rPr b="0" i="1" lang="ru-RU" sz="2400" spc="-1" strike="noStrike">
                <a:solidFill>
                  <a:srgbClr val="ffffff"/>
                </a:solidFill>
                <a:latin typeface="Century Schoolbook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- поверхность тела человека, выраженная в 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; </a:t>
            </a:r>
            <a:r>
              <a:rPr b="0" i="1" lang="ru-RU" sz="24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- масса тела, выраженная в к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2. Расчет поверхности тела человека по формуле Костеф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где </a:t>
            </a:r>
            <a:r>
              <a:rPr b="0" i="1" lang="ru-RU" sz="2400" spc="-1" strike="noStrike">
                <a:solidFill>
                  <a:srgbClr val="ffffff"/>
                </a:solidFill>
                <a:latin typeface="Century Schoolbook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- поверхность тела человека, выраженная в 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; </a:t>
            </a:r>
            <a:r>
              <a:rPr b="0" i="1" lang="ru-RU" sz="24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- масса тела, выраженная в к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3. Формула, использующаяся в медицин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S = 0,16√mh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, где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m-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масса тела в кг,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h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– рост в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12" descr="http://www.statsoft.ru/home/portal/applications/medicine/images/statistics/im34.gif"/>
          <p:cNvPicPr/>
          <p:nvPr/>
        </p:nvPicPr>
        <p:blipFill>
          <a:blip r:embed="rId1"/>
          <a:stretch/>
        </p:blipFill>
        <p:spPr>
          <a:xfrm>
            <a:off x="3132000" y="1577880"/>
            <a:ext cx="2160720" cy="6890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3" descr="http://www.statsoft.ru/home/portal/applications/medicine/images/statistics/im35.gif"/>
          <p:cNvPicPr/>
          <p:nvPr/>
        </p:nvPicPr>
        <p:blipFill>
          <a:blip r:embed="rId2"/>
          <a:stretch/>
        </p:blipFill>
        <p:spPr>
          <a:xfrm>
            <a:off x="3276720" y="3881520"/>
            <a:ext cx="1871640" cy="981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6"/>
          <p:cNvSpPr/>
          <p:nvPr/>
        </p:nvSpPr>
        <p:spPr>
          <a:xfrm>
            <a:off x="755640" y="189000"/>
            <a:ext cx="68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Аналитические методы расч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Александр Вербин\Desktop\Площадь человека\geom_10_14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57120" y="1714680"/>
            <a:ext cx="328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Если сделать модель человека из геометрических фигур, то площадь поверхности рассчитывается по форму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Стрелка вправо 5"/>
          <p:cNvSpPr/>
          <p:nvPr/>
        </p:nvSpPr>
        <p:spPr>
          <a:xfrm>
            <a:off x="2428920" y="4786200"/>
            <a:ext cx="157176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214200" y="21420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cc"/>
                </a:solidFill>
                <a:uFillTx/>
                <a:latin typeface="Calibri"/>
              </a:rPr>
              <a:t>Мет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cc"/>
                </a:solidFill>
                <a:uFillTx/>
                <a:latin typeface="Calibri"/>
              </a:rPr>
              <a:t>Модел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C:\Users\Александр Вербин\Desktop\анимашки\Рисунок1ggd.gif"/>
          <p:cNvPicPr/>
          <p:nvPr/>
        </p:nvPicPr>
        <p:blipFill>
          <a:blip r:embed="rId2"/>
          <a:stretch/>
        </p:blipFill>
        <p:spPr>
          <a:xfrm>
            <a:off x="720720" y="5000760"/>
            <a:ext cx="1434960" cy="157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4"/>
          <p:cNvSpPr/>
          <p:nvPr/>
        </p:nvSpPr>
        <p:spPr>
          <a:xfrm>
            <a:off x="179280" y="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плообмен тела человека с окружающей сре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173664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Комфортные условия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ля организма человека обеспечиваются при соблюдении теплового балан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равнение теплового баланса для организма человека за определенный период времени может быть представлено в следующем ви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= 0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де  M - тепло процессов метаболизма, полученное из химических     субстратов пищи, подвергшихся расщеплению в клетках;  S -  накопленное организмом тепло;    R, C, P - тепло отданное (со знаком -) или полученное (со знаком +)  путем излучения, конвекции, теплопередачи;  E - тепло, отданное за счет испа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6:24:41Z</dcterms:created>
  <dc:creator>Андрей</dc:creator>
  <dc:description/>
  <dc:language>en-US</dc:language>
  <cp:lastModifiedBy>пользователь</cp:lastModifiedBy>
  <dcterms:modified xsi:type="dcterms:W3CDTF">2013-11-11T11:45:51Z</dcterms:modified>
  <cp:revision>20</cp:revision>
  <dc:subject/>
  <dc:title>Слайд 1</dc:title>
</cp:coreProperties>
</file>