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01F-BCE3-4CF6-BC95-4EDE2CBC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361-1BA9-43C1-9714-5CD9DB2C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3F3D-3DDE-4AE0-BF93-43555C14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567D-DA7A-46FD-AC08-1F2DB59C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8F6-8CED-494B-AAB5-F69E0888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DE2-CFFF-4C9B-A835-37F73C41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6755-707A-4338-A003-01FB9D35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F6DE-7758-46C1-BD15-DABA85F5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9E3-E907-423A-B5E7-FF3C25CB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5830-09C6-4A82-9B9E-B2050389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E26-51F5-4959-85B6-00F0DEF6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0EC2-608C-4D61-B206-8D2ECB00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2268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53DB-F513-4C0F-8330-B924205136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78588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ЕМА УРОКА: </a:t>
            </a:r>
            <a:br>
              <a:rPr sz="54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«ВЫПОЛНЕНИЕ ТОНИРОВАНИЯ ВОЛОС»</a:t>
            </a:r>
            <a:br>
              <a:rPr sz="5400"/>
            </a:b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000080" y="4929120"/>
            <a:ext cx="150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подготовлена Т.Н. Полтавчен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тером производственного обучения  ГАОУСПТ РК «СП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рофессии «Парикмахер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особ «Диагонал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:\Открытый урок\2011-12-06\Scan10016111.JPG"/>
          <p:cNvPicPr/>
          <p:nvPr/>
        </p:nvPicPr>
        <p:blipFill>
          <a:blip r:embed="rId1"/>
          <a:stretch/>
        </p:blipFill>
        <p:spPr>
          <a:xfrm>
            <a:off x="0" y="1714680"/>
            <a:ext cx="918360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0104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блемная ситуация: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Удаление нежелательного оттенка воло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применение микстонов резаный"/>
          <p:cNvPicPr/>
          <p:nvPr/>
        </p:nvPicPr>
        <p:blipFill>
          <a:blip r:embed="rId1"/>
          <a:srcRect l="862" t="0" r="72473" b="40491"/>
          <a:stretch/>
        </p:blipFill>
        <p:spPr>
          <a:xfrm>
            <a:off x="357120" y="2143080"/>
            <a:ext cx="4071960" cy="43434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применение микстонов резаный"/>
          <p:cNvPicPr/>
          <p:nvPr/>
        </p:nvPicPr>
        <p:blipFill>
          <a:blip r:embed="rId2">
            <a:lum contrast="20000"/>
          </a:blip>
          <a:srcRect l="652" t="57140" r="72225" b="29561"/>
          <a:stretch/>
        </p:blipFill>
        <p:spPr>
          <a:xfrm>
            <a:off x="4643280" y="2643120"/>
            <a:ext cx="421488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применение микстонов резаный"/>
          <p:cNvPicPr/>
          <p:nvPr/>
        </p:nvPicPr>
        <p:blipFill>
          <a:blip r:embed="rId3">
            <a:lum contrast="20000"/>
          </a:blip>
          <a:srcRect l="1310" t="69833" r="72877" b="17607"/>
          <a:stretch/>
        </p:blipFill>
        <p:spPr>
          <a:xfrm>
            <a:off x="4643280" y="5357880"/>
            <a:ext cx="4214880" cy="9064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"/>
          <p:cNvPicPr/>
          <p:nvPr/>
        </p:nvPicPr>
        <p:blipFill>
          <a:blip r:embed="rId4"/>
          <a:stretch/>
        </p:blipFill>
        <p:spPr>
          <a:xfrm>
            <a:off x="4643280" y="3929040"/>
            <a:ext cx="4143600" cy="957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ейтрализация нежелательных оттен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Documents and Settings\Admin\Рабочий стол\4.jpg"/>
          <p:cNvPicPr/>
          <p:nvPr/>
        </p:nvPicPr>
        <p:blipFill>
          <a:blip r:embed="rId1"/>
          <a:stretch/>
        </p:blipFill>
        <p:spPr>
          <a:xfrm>
            <a:off x="285840" y="2214720"/>
            <a:ext cx="8643960" cy="29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бор оттенков для нейтрализации нежелательных нюан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выбор"/>
          <p:cNvPicPr/>
          <p:nvPr/>
        </p:nvPicPr>
        <p:blipFill>
          <a:blip r:embed="rId1">
            <a:lum contrast="30000"/>
          </a:blip>
          <a:srcRect l="0" t="6491" r="9510" b="0"/>
          <a:stretch/>
        </p:blipFill>
        <p:spPr>
          <a:xfrm>
            <a:off x="142920" y="1428840"/>
            <a:ext cx="8786880" cy="507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блемная ситуация:</a:t>
            </a:r>
            <a:br>
              <a:rPr sz="40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ыбор цвета волос по цветотип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2066760" cy="2500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2286000" y="3857760"/>
            <a:ext cx="2149560" cy="2547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4500720" y="1643040"/>
            <a:ext cx="2143080" cy="2576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4"/>
          <a:stretch/>
        </p:blipFill>
        <p:spPr>
          <a:xfrm>
            <a:off x="6786720" y="4071960"/>
            <a:ext cx="2143080" cy="2521080"/>
          </a:xfrm>
          <a:prstGeom prst="rect">
            <a:avLst/>
          </a:prstGeom>
          <a:ln w="0">
            <a:noFill/>
          </a:ln>
        </p:spPr>
      </p:pic>
      <p:sp>
        <p:nvSpPr>
          <p:cNvPr id="82" name="TextBox 10"/>
          <p:cNvSpPr/>
          <p:nvPr/>
        </p:nvSpPr>
        <p:spPr>
          <a:xfrm>
            <a:off x="357120" y="421488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с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2571840" y="321480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е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4786200" y="428616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е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7143840" y="342900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особы подбора цвета вол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00040" y="1714680"/>
            <a:ext cx="8229600" cy="36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екторный подб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мпьютерное моде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142920"/>
            <a:ext cx="914400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ыбор окрашивания в зависимости от сезонного т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4" descr="цветотипы2"/>
          <p:cNvPicPr/>
          <p:nvPr/>
        </p:nvPicPr>
        <p:blipFill>
          <a:blip r:embed="rId1"/>
          <a:srcRect l="1923" t="7246" r="907" b="1609"/>
          <a:stretch/>
        </p:blipFill>
        <p:spPr>
          <a:xfrm>
            <a:off x="142920" y="1643040"/>
            <a:ext cx="8858160" cy="507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хника безопас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71680" y="150012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резиновых перча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00040" y="235728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рументы не должны иметь      металлических ча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500040" y="364320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ение биопро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518040" y="4357800"/>
            <a:ext cx="788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ежда клиента должна быть наде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щищ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500040" y="5504040"/>
            <a:ext cx="807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людение технологии нанесения   крас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нструкционная ка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85880" y="1428840"/>
          <a:ext cx="7858080" cy="4643280"/>
        </p:xfrm>
        <a:graphic>
          <a:graphicData uri="http://schemas.openxmlformats.org/drawingml/2006/table">
            <a:tbl>
              <a:tblPr/>
              <a:tblGrid>
                <a:gridCol w="3929040"/>
                <a:gridCol w="3929040"/>
              </a:tblGrid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сходный цвет вол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Цвето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екомендуемый цвет окраш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акой нежелательный оттенок нейтрализу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то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пособ то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езультат окраш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" y="164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одведение итог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вторение пройденной т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Выполнение мелирования воло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4" descr="PC068252.JPG"/>
          <p:cNvPicPr/>
          <p:nvPr/>
        </p:nvPicPr>
        <p:blipFill>
          <a:blip r:embed="rId1"/>
          <a:stretch/>
        </p:blipFill>
        <p:spPr>
          <a:xfrm>
            <a:off x="428760" y="1214280"/>
            <a:ext cx="3911400" cy="5214960"/>
          </a:xfrm>
          <a:prstGeom prst="rect">
            <a:avLst/>
          </a:prstGeom>
          <a:ln w="0">
            <a:noFill/>
          </a:ln>
        </p:spPr>
      </p:pic>
      <p:sp>
        <p:nvSpPr>
          <p:cNvPr id="101" name="Заголовок 1"/>
          <p:cNvSpPr/>
          <p:nvPr/>
        </p:nvSpPr>
        <p:spPr>
          <a:xfrm>
            <a:off x="4643280" y="285840"/>
            <a:ext cx="397224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Д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571680" y="357120"/>
            <a:ext cx="32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4" descr="PC068253 export.jpg"/>
          <p:cNvPicPr/>
          <p:nvPr/>
        </p:nvPicPr>
        <p:blipFill>
          <a:blip r:embed="rId2"/>
          <a:srcRect l="19791" t="17708" r="17377" b="5209"/>
          <a:stretch/>
        </p:blipFill>
        <p:spPr>
          <a:xfrm>
            <a:off x="4857840" y="1214280"/>
            <a:ext cx="3714840" cy="528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Заголовок 1"/>
          <p:cNvSpPr/>
          <p:nvPr/>
        </p:nvSpPr>
        <p:spPr>
          <a:xfrm>
            <a:off x="4357800" y="357120"/>
            <a:ext cx="3971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Д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1" descr="PC068261.JPG"/>
          <p:cNvPicPr/>
          <p:nvPr/>
        </p:nvPicPr>
        <p:blipFill>
          <a:blip r:embed="rId1"/>
          <a:srcRect l="0" t="14846" r="4398" b="0"/>
          <a:stretch/>
        </p:blipFill>
        <p:spPr>
          <a:xfrm>
            <a:off x="357120" y="1500120"/>
            <a:ext cx="3929040" cy="4665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642960" y="357120"/>
            <a:ext cx="32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Жеребцова2 export.jpg"/>
          <p:cNvPicPr/>
          <p:nvPr/>
        </p:nvPicPr>
        <p:blipFill>
          <a:blip r:embed="rId2"/>
          <a:srcRect l="21000" t="17708" r="19791" b="13542"/>
          <a:stretch/>
        </p:blipFill>
        <p:spPr>
          <a:xfrm>
            <a:off x="4857840" y="1500120"/>
            <a:ext cx="3500280" cy="47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Заголовок 1"/>
          <p:cNvSpPr/>
          <p:nvPr/>
        </p:nvSpPr>
        <p:spPr>
          <a:xfrm>
            <a:off x="4357800" y="357120"/>
            <a:ext cx="3971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Д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571680" y="357120"/>
            <a:ext cx="32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4" descr="PC078295 export.jpg"/>
          <p:cNvPicPr/>
          <p:nvPr/>
        </p:nvPicPr>
        <p:blipFill>
          <a:blip r:embed="rId1"/>
          <a:srcRect l="19331" t="19793" r="15417" b="13542"/>
          <a:stretch/>
        </p:blipFill>
        <p:spPr>
          <a:xfrm>
            <a:off x="4786200" y="1500120"/>
            <a:ext cx="3978360" cy="47149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PC078296.JPG"/>
          <p:cNvPicPr/>
          <p:nvPr/>
        </p:nvPicPr>
        <p:blipFill>
          <a:blip r:embed="rId2"/>
          <a:srcRect l="21877" t="2083" r="25783" b="18752"/>
          <a:stretch/>
        </p:blipFill>
        <p:spPr>
          <a:xfrm>
            <a:off x="428760" y="1500120"/>
            <a:ext cx="4093920" cy="46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Заголовок 1"/>
          <p:cNvSpPr/>
          <p:nvPr/>
        </p:nvSpPr>
        <p:spPr>
          <a:xfrm>
            <a:off x="4357800" y="357120"/>
            <a:ext cx="3971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Д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7" descr="PC068280.JPG"/>
          <p:cNvPicPr/>
          <p:nvPr/>
        </p:nvPicPr>
        <p:blipFill>
          <a:blip r:embed="rId1"/>
          <a:srcRect l="2780" t="7293" r="0" b="0"/>
          <a:stretch/>
        </p:blipFill>
        <p:spPr>
          <a:xfrm>
            <a:off x="500040" y="1285920"/>
            <a:ext cx="4143240" cy="52671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571680" y="357120"/>
            <a:ext cx="32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4" descr="PC068285 export.jpg"/>
          <p:cNvPicPr/>
          <p:nvPr/>
        </p:nvPicPr>
        <p:blipFill>
          <a:blip r:embed="rId2"/>
          <a:srcRect l="19331" t="16670" r="19443" b="16670"/>
          <a:stretch/>
        </p:blipFill>
        <p:spPr>
          <a:xfrm>
            <a:off x="4714920" y="1285920"/>
            <a:ext cx="4071960" cy="51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Заголовок 1"/>
          <p:cNvSpPr/>
          <p:nvPr/>
        </p:nvSpPr>
        <p:spPr>
          <a:xfrm>
            <a:off x="4357800" y="357120"/>
            <a:ext cx="3971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Д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71680" y="357120"/>
            <a:ext cx="32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7" descr="PC068272.JPG"/>
          <p:cNvPicPr/>
          <p:nvPr/>
        </p:nvPicPr>
        <p:blipFill>
          <a:blip r:embed="rId1"/>
          <a:srcRect l="11110" t="8333" r="11110" b="16665"/>
          <a:stretch/>
        </p:blipFill>
        <p:spPr>
          <a:xfrm>
            <a:off x="285840" y="1428840"/>
            <a:ext cx="4000320" cy="5143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8" descr="PC068279 export.jpg"/>
          <p:cNvPicPr/>
          <p:nvPr/>
        </p:nvPicPr>
        <p:blipFill>
          <a:blip r:embed="rId2"/>
          <a:srcRect l="17377" t="19793" r="16167" b="13542"/>
          <a:stretch/>
        </p:blipFill>
        <p:spPr>
          <a:xfrm>
            <a:off x="4429080" y="1428840"/>
            <a:ext cx="4336920" cy="504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Заголовок 1"/>
          <p:cNvSpPr/>
          <p:nvPr/>
        </p:nvSpPr>
        <p:spPr>
          <a:xfrm>
            <a:off x="4357800" y="357120"/>
            <a:ext cx="39718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Д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1680" y="357120"/>
            <a:ext cx="32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4" descr="PC078293.JPG"/>
          <p:cNvPicPr/>
          <p:nvPr/>
        </p:nvPicPr>
        <p:blipFill>
          <a:blip r:embed="rId1"/>
          <a:srcRect l="26563" t="2083" r="27345" b="15626"/>
          <a:stretch/>
        </p:blipFill>
        <p:spPr>
          <a:xfrm>
            <a:off x="357120" y="1406520"/>
            <a:ext cx="3857760" cy="51656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" descr="PC078291 export.jpg"/>
          <p:cNvPicPr/>
          <p:nvPr/>
        </p:nvPicPr>
        <p:blipFill>
          <a:blip r:embed="rId2"/>
          <a:srcRect l="16167" t="18751" r="17377" b="12499"/>
          <a:stretch/>
        </p:blipFill>
        <p:spPr>
          <a:xfrm>
            <a:off x="4286160" y="1357200"/>
            <a:ext cx="4357800" cy="52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br>
              <a:rPr sz="8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смотреть современные тенденции моды в журналах парикмахерск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ти в интернете новые технологии по тонированию волос современных фирм произв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ть зад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Прямоугольник 3" descr=""/>
          <p:cNvPicPr/>
          <p:nvPr/>
        </p:nvPicPr>
        <p:blipFill>
          <a:blip r:embed="rId1"/>
          <a:stretch/>
        </p:blipFill>
        <p:spPr>
          <a:xfrm>
            <a:off x="781200" y="1481040"/>
            <a:ext cx="7869240" cy="117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мелирование на шапочку"/>
          <p:cNvPicPr/>
          <p:nvPr/>
        </p:nvPicPr>
        <p:blipFill>
          <a:blip r:embed="rId1"/>
          <a:stretch/>
        </p:blipFill>
        <p:spPr>
          <a:xfrm>
            <a:off x="214200" y="2357280"/>
            <a:ext cx="8750520" cy="30607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571680" y="42876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елирование на шапоч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штопка прядей"/>
          <p:cNvPicPr/>
          <p:nvPr/>
        </p:nvPicPr>
        <p:blipFill>
          <a:blip r:embed="rId1"/>
          <a:stretch/>
        </p:blipFill>
        <p:spPr>
          <a:xfrm>
            <a:off x="142920" y="2571840"/>
            <a:ext cx="8820000" cy="3071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714240" y="285840"/>
            <a:ext cx="75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елирование на фольгу или термобумаг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вуаль"/>
          <p:cNvPicPr/>
          <p:nvPr/>
        </p:nvPicPr>
        <p:blipFill>
          <a:blip r:embed="rId1"/>
          <a:stretch/>
        </p:blipFill>
        <p:spPr>
          <a:xfrm>
            <a:off x="571680" y="2286000"/>
            <a:ext cx="7929360" cy="393696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500040" y="428760"/>
            <a:ext cx="807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уаль (пластины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ШИБКИ ПРИ ВЫПОЛНЕНИИ МЕЛИРОВАНИЯ В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2920" y="1143000"/>
          <a:ext cx="8715240" cy="5675400"/>
        </p:xfrm>
        <a:graphic>
          <a:graphicData uri="http://schemas.openxmlformats.org/drawingml/2006/table">
            <a:tbl>
              <a:tblPr/>
              <a:tblGrid>
                <a:gridCol w="2214360"/>
                <a:gridCol w="3595680"/>
                <a:gridCol w="2905200"/>
              </a:tblGrid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исправ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20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96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4" name="TextBox 4"/>
          <p:cNvSpPr/>
          <p:nvPr/>
        </p:nvSpPr>
        <p:spPr>
          <a:xfrm>
            <a:off x="142920" y="2071800"/>
            <a:ext cx="221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. На корнях волос появились светлые пятн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42920" y="4714920"/>
            <a:ext cx="22143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. Пряди осветлились не равномерн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357280" y="1643040"/>
            <a:ext cx="35719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з фольги протёк препарат потому что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остав оказался слишком жидким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ыбрали сильный окислитель, из-за чего состав набух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Состав нанесли очень близко к корня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6000840" y="2143080"/>
            <a:ext cx="27860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анести на корни волос химический краситель близкий к естественному цвету вол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2357280" y="4286160"/>
            <a:ext cx="35719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е нанесли состав на пряд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ыбирали слишком толстые пряд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5929200" y="4357800"/>
            <a:ext cx="28576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еобходимо повторно окрасить волосы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онирование волос –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егкое освежение цвета волос, придание им более глубокого цвета или какого-либо оттенка. При этом естественный пигмент не нарушае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иды тон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6760" y="1285920"/>
            <a:ext cx="857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помощи профессиональных тонирующих крас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помощи оттеночных шампу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помощи химических красителей и активат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особ «Луковиц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:\Открытый урок\2011-12-06\Scan1001611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7:58:29Z</dcterms:created>
  <dc:creator>User</dc:creator>
  <dc:description/>
  <dc:language>en-US</dc:language>
  <cp:lastModifiedBy>пользователь</cp:lastModifiedBy>
  <dcterms:modified xsi:type="dcterms:W3CDTF">2013-12-04T08:50:40Z</dcterms:modified>
  <cp:revision>64</cp:revision>
  <dc:subject/>
  <dc:title>Слайд 1</dc:title>
</cp:coreProperties>
</file>